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AA2C-A5EA-4A77-9801-23FD1A58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EEE-CA7D-4F8D-B6D6-1F8317C6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C1E-D27A-400A-B140-CCC038FB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C72-0364-4E26-BED9-2A81057C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BDF-DC2E-4E19-A647-FE8BA1B5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A3E-4C4D-4B6D-9D81-FA5C1579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678-3131-4CC6-962F-3866619C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065C-ED5A-44F7-8072-3B1B519A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7FB-5D10-4F84-99F1-D4647A7E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39F-08D6-4DA2-9B82-36EC2A08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8F85-E21D-4493-AF44-9406BB77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FFA-B93F-4F89-8135-CBF088B4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03A7-B350-4349-9FBA-FDB3245D4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411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84080"/>
            <a:ext cx="69840" cy="29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9188600">
            <a:off x="465120" y="2769840"/>
            <a:ext cx="761220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ПРОБЛЕМЫ ЭКОНОМИК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 rot="19002000">
            <a:off x="4356000" y="4797000"/>
            <a:ext cx="406728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верева Дарья 10 "Б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«Что и в каком количестве производить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ответе на этот вопрос предпочтение отдаётся выпуску определенных товаров и услуг, причём в таких количествах, которые позволяют ограниченны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блему производства необходимых товаров и услуг приходится решать руководителям различных уровней: от менеджера фирмы до главы правительства. Имеющиеся в их распоряжении денежные средства могут быть очень велики, но в любом случае не безграничны. При утверждении государственного бюджета правительство и парламент должны определить размеры средств, направляемых на социальную помощь, содержание государственного аппарата, образование, науку, оборону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9792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вечая на этот вопрос, люди отдают предпочтение определённой технологии (способам) создания тех благ, которые были выбраны при ответе на первый вопрос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 первый взгляд эффективнее всего использовать новейшие (высокие) технологии. Однако их внедрение потребует больших финансовых затрат, повышения уровня подготовки работников, что отразится в конечном счёте на доходе фирмы. Новая технология может представлять повышенную опасность для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0"/>
            <a:ext cx="849636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Как производить?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360000"/>
            <a:ext cx="107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896472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Решение этого вопроса заключается в выборе способа получения благ потребителями. Блага могут делить поровну, тогда имеет место уравнительный способ распределения, или на основе закона спроса и предложения – в условиях рыночной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В настоящее время в большинстве стран мира преобладают сложный механизм рыночного рас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86600">
            <a:off x="9000" y="0"/>
            <a:ext cx="896472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аким образом распределять?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9:16:59Z</dcterms:created>
  <dc:creator>Оксана</dc:creator>
  <dc:description/>
  <dc:language>en-US</dc:language>
  <cp:lastModifiedBy>Оксана</cp:lastModifiedBy>
  <dcterms:modified xsi:type="dcterms:W3CDTF">2007-01-21T19:47:55Z</dcterms:modified>
  <cp:revision>2</cp:revision>
  <dc:subject/>
  <dc:title>Слайд 1</dc:title>
</cp:coreProperties>
</file>